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B1A-C4A6-4B94-B765-20005875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237-96DA-440A-A3CE-EF5ADBDB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587-9FF1-4C9A-B695-B1C8CC1A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5F9-2AD0-4ECD-91A7-5D5A994B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4CC9-99D2-463A-8989-8AD7D39C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3886-388A-47CA-BAA2-42934FB4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2FD2-F043-454E-87A8-11111AC3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44D1-2A66-44A6-AB9C-2094114E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2E29-EAFD-4731-95FA-4FEA6034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7C5F-C9B5-47C3-910F-3219A8A9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01CD-20D0-473B-BAB9-2FA828DF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C29-E822-4AB7-B712-55A45FD6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1E31-E381-4D9F-B10D-20794D6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2F24-A096-45C9-8B28-9D8FFC85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18AD-35B2-4035-85AA-26B9ED63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EEF8-F60A-4B84-9180-003E8302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767E-86D6-42E5-B89A-55FF1479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2BAA4-0A39-475E-A5B2-F357B31A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2D65-CBA2-4656-B6A2-9D13620D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F982C-8A73-4B5F-AF32-D15723C0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6224-2B4F-4BCF-808E-85DF7371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F6B1-5F9A-4AA5-B847-20F4AE2B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51F-6248-4335-9DD4-BBB3A237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43D5-8670-462E-9C8D-453D92D5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2518-AA97-4C44-89B0-B69F52B4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D1CF-4283-40BC-8EC2-7C7B84F3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830C-CC2C-457F-AC81-9F53366F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2C58-6953-4946-B437-6EAC01C9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73D5-AF5B-418A-B1DF-00D33E2B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64D23-BC67-4BB3-9043-CD0FAC79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D5FBB-0F01-4752-AB85-52179BA8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CAC27-C3FC-40B0-B21E-0FBDCF7C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6C2ED-EAF3-442C-B63D-5A46F439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D32-866B-48C6-9B5D-B043F2F6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2C01-3D2B-44C0-A2A9-7EC94287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B050C-2D46-4279-9C71-31701060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56EB9-C413-469D-90EC-998304F6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F2E1-4B64-4BE1-BB68-8223500E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D33A-A875-4303-AB2E-F691364B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2C7FC-DF20-445F-808A-94284D85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3D96-1A57-4BAA-ABBE-40FBC433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0C1E0-36FE-48C5-8EE0-FB2C5B35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37E22-67CA-4695-A1AC-60A9F680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4E022-CCB1-40DD-BE4D-6A5FD0B3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3B6-A9A4-42E7-8E94-7750F3D0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6B3DC-DDFD-4EE3-A325-424EDD9F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98AC1-E53E-4A61-9485-CCC9CBA0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950BD-8C45-4759-814B-224CFF61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F7D51-3B87-43D0-9246-C7F686BE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FFAA4-A127-4A29-A99C-439FB8AC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39126-1821-43A1-9762-97A4C704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3C5E6-868A-4A91-8BF7-3006E389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902F4-82AE-4629-B824-1F8E7754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14767-C224-476F-94D9-C9C13316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F942B-D002-4CFD-8711-077FB831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ECB-EB04-4368-BA59-350FC5C8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0C5E9-EBAA-4A37-A4CC-013D3DAB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D8A-49DB-4799-81AE-14C4FE56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F44-F4B3-4446-8390-F4B12937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036-49D1-4A3B-ABFE-3A64F9D0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420D-B654-44D8-9DE7-46131E8ABD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C2C1-D944-4EEF-8712-35CCAC5F62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000C-95F1-4DC3-B51D-0C6007355B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BD26-B37D-4D0B-84B3-7B628540F09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132B-D874-4CC2-B57F-C93F621321E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Perpetua"/>
              </a:rPr>
              <a:t>CREAREA UNUI TEST ON-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APITOLUL III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Editare tes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31" name="Picture 4" descr="C:\Users\Win7\Desktop\laura print screenuri\REALIZARE TEST PORTAL.jpg"/>
          <p:cNvPicPr/>
          <p:nvPr/>
        </p:nvPicPr>
        <p:blipFill>
          <a:blip r:embed="rId1"/>
          <a:stretch/>
        </p:blipFill>
        <p:spPr>
          <a:xfrm>
            <a:off x="609480" y="1905120"/>
            <a:ext cx="81518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C:\Users\Win7\Desktop\laura print screenuri\REALIZARE TEST PORTAL 1.jpg"/>
          <p:cNvPicPr/>
          <p:nvPr/>
        </p:nvPicPr>
        <p:blipFill>
          <a:blip r:embed="rId1"/>
          <a:stretch/>
        </p:blipFill>
        <p:spPr>
          <a:xfrm>
            <a:off x="685800" y="1143000"/>
            <a:ext cx="7996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C:\Users\Win7\Desktop\laura print screenuri\REALIZARE TEST PORTAL 2.jpg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Win7\Desktop\laura print screenuri\REALIZARE TEST PORTAL 3.jpg"/>
          <p:cNvPicPr/>
          <p:nvPr/>
        </p:nvPicPr>
        <p:blipFill>
          <a:blip r:embed="rId1"/>
          <a:stretch/>
        </p:blipFill>
        <p:spPr>
          <a:xfrm>
            <a:off x="457200" y="68580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Win7\Desktop\laura print screenuri\REALIZARE TEST PORTAL 5.jpg"/>
          <p:cNvPicPr/>
          <p:nvPr/>
        </p:nvPicPr>
        <p:blipFill>
          <a:blip r:embed="rId1"/>
          <a:stretch/>
        </p:blipFill>
        <p:spPr>
          <a:xfrm>
            <a:off x="1523880" y="1066680"/>
            <a:ext cx="6400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Win7\Desktop\laura print screenuri\REALIZARE TEST PORTAL 6.jpg"/>
          <p:cNvPicPr/>
          <p:nvPr/>
        </p:nvPicPr>
        <p:blipFill>
          <a:blip r:embed="rId1"/>
          <a:stretch/>
        </p:blipFill>
        <p:spPr>
          <a:xfrm>
            <a:off x="1143000" y="11430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51Z</dcterms:created>
  <dc:creator>User</dc:creator>
  <dc:description/>
  <dc:language>en-US</dc:language>
  <cp:lastModifiedBy>Win7</cp:lastModifiedBy>
  <dcterms:modified xsi:type="dcterms:W3CDTF">2012-06-28T10:22:59Z</dcterms:modified>
  <cp:revision>14</cp:revision>
  <dc:subject/>
  <dc:title>CAPITOLUL 3</dc:title>
</cp:coreProperties>
</file>